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7793-CF23-4A15-8FDC-60485F1BC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67BE-5759-44EC-A246-3ADBEBE14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8425-A4C4-4650-B402-D7740C42C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067E-5DE6-48C8-9C32-E7D0E5DF0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9760A-5812-4D38-ABCD-2BEE6C50A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35A54-BB4E-4535-AF42-D45C05854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CB8B8-D069-4C65-BFFC-45E9E17BC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8E551-1CE7-47F9-892D-9462FEAFD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B96A3-CB74-412A-B4D7-E8F654D7D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2AE03-0550-4FF3-9AFA-D8EB528E4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8E3C3-2A4A-444D-B6CB-F36763D19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EF20-4124-4466-AC8B-12718E12D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4D32C-25B7-4ABC-8E09-7DEA51F02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0FE04-D89A-43C8-8C4F-4E48F7C45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8B577-6526-4E04-A32D-99E40A534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9E9C2-21FF-40C3-AD96-FC8C5FF95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404F8-30CB-47B5-90B9-97CF64408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1481-4E10-4906-BC18-B763D1480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32E5-0C31-40D5-B888-004C3CA63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8224-0B2F-4AD1-ADBD-66303314F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3010-DC53-4E36-9554-688CF464A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9DE5-9B0A-4EA0-910A-F4B853C3E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793B-0EE1-4F1E-993A-D2CB356D7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B754-8D3B-48F0-9BD1-336758CD6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5EFD4-D407-4D47-BBA7-30495887B28E}" type="datetime">
              <a:rPr b="0" lang="zh-CN" sz="10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EFE34-7B52-49A7-A229-D863EFD66DB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FEFEB-28FF-4F56-B2B3-5ED8375A555E}" type="datetime">
              <a:rPr b="0" lang="zh-CN" sz="10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9F8C8-D431-440F-B34D-4D941439844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灯片编号占位符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119DB-F6E4-4B18-9DBB-0DD74D9BD51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55640" y="765000"/>
            <a:ext cx="7786800" cy="175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c0000"/>
                </a:solidFill>
                <a:latin typeface="黑体"/>
                <a:ea typeface="黑体"/>
              </a:rPr>
              <a:t>第十二章  消费者的品牌心理与行为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1332000" y="2565360"/>
            <a:ext cx="6696000" cy="29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一节   品牌的内涵与构成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二节   品牌心理的形成机制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三节   消费者的品牌购买行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四节   增强消费者的品牌偏好与忠诚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灯片编号占位符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88003-7B3A-4468-AF94-8DFEFD63C17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品牌的心理作用机制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1116000" y="1413000"/>
            <a:ext cx="75708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品牌认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的认知过程是指消费者认识、了解、确信并接受品牌的过程，是品牌发生作用的心理基础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285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9a0000"/>
              </a:buClr>
              <a:buSzPct val="75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定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285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9a0000"/>
              </a:buClr>
              <a:buSzPct val="75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个性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品牌情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内容占位符 2"/>
          <p:cNvSpPr/>
          <p:nvPr/>
        </p:nvSpPr>
        <p:spPr>
          <a:xfrm>
            <a:off x="4356000" y="981000"/>
            <a:ext cx="8229600" cy="44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619280" y="620280"/>
            <a:ext cx="639288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三、品牌的心理效应</a:t>
            </a:r>
            <a:br>
              <a:rPr sz="3200"/>
            </a:b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332000" y="1719360"/>
            <a:ext cx="73548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的差异效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的光环效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的情感效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的魅力效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的附加效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1692000" y="1719360"/>
            <a:ext cx="699444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一、品牌在消费者购买行为中的作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二、消费者品牌转换行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页脚占位符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灯片编号占位符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D42D8-395B-46DF-9E42-75577941D4D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标题 1"/>
          <p:cNvSpPr/>
          <p:nvPr/>
        </p:nvSpPr>
        <p:spPr>
          <a:xfrm>
            <a:off x="179280" y="260280"/>
            <a:ext cx="8472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第三节  消费者的品牌购买行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7543800" cy="1795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品牌在消费者购买行为中的作用</a:t>
            </a:r>
            <a:br>
              <a:rPr sz="3600"/>
            </a:b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1403280" y="2133360"/>
            <a:ext cx="728352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品牌在寻找解决方案中的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品牌在评价比较方案中的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品牌在购后评价中的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灯片编号占位符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A5FD4-8A29-4096-BCC2-E38CF474108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7543800" cy="1300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品牌转换行为</a:t>
            </a:r>
            <a:br>
              <a:rPr sz="3200"/>
            </a:b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0" name="页脚占位符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灯片编号占位符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1E37A-6944-475C-B1A1-FF7D555D0C4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971640" y="1341000"/>
            <a:ext cx="772632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消费者品牌转换的产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消费者品牌转换的影响因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82360" indent="-242640">
              <a:lnSpc>
                <a:spcPct val="15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消费者因素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58640" indent="-268560">
              <a:lnSpc>
                <a:spcPct val="150000"/>
              </a:lnSpc>
              <a:spcBef>
                <a:spcPts val="601"/>
              </a:spcBef>
              <a:buClr>
                <a:srgbClr val="c00000"/>
              </a:buClr>
              <a:buSzPct val="8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消费者卷入程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58640" indent="-268560">
              <a:lnSpc>
                <a:spcPct val="150000"/>
              </a:lnSpc>
              <a:spcBef>
                <a:spcPts val="601"/>
              </a:spcBef>
              <a:buClr>
                <a:srgbClr val="c00000"/>
              </a:buClr>
              <a:buSzPct val="8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消费者的产品知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58640" indent="-268560">
              <a:lnSpc>
                <a:spcPct val="150000"/>
              </a:lnSpc>
              <a:spcBef>
                <a:spcPts val="601"/>
              </a:spcBef>
              <a:buClr>
                <a:srgbClr val="c00000"/>
              </a:buClr>
              <a:buSzPct val="8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消费者特征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82360" indent="-242640">
              <a:lnSpc>
                <a:spcPct val="15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企业营销因素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82360" indent="-242640">
              <a:lnSpc>
                <a:spcPct val="15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市场竞争结构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88240" indent="-2955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88240" indent="-2955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78920" y="122400"/>
            <a:ext cx="82090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第四节  增强消费者的品牌偏好与忠诚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1403280" y="1719360"/>
            <a:ext cx="728352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一、品牌忠诚的概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二、品牌忠诚形成的心理机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三、增强消费者品牌忠诚的措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页脚占位符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灯片编号占位符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A5C4F-1DF6-42D0-8C8A-1DEBF538D63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F3438-CB57-4051-AA95-6D1C2640E1E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94920" y="33336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品牌忠诚的概念</a:t>
            </a:r>
            <a:br>
              <a:rPr sz="3200"/>
            </a:b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68000" y="1196640"/>
            <a:ext cx="86756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行为论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the behavioral approach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态度论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the attitudinal approach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忠诚的特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7800" indent="-282960">
              <a:lnSpc>
                <a:spcPct val="15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是非随机的，有倾向性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800" indent="-282960">
              <a:lnSpc>
                <a:spcPct val="15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具有行为反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800" indent="-282960">
              <a:lnSpc>
                <a:spcPct val="15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在较长时间内持续表现出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800" indent="-282960">
              <a:lnSpc>
                <a:spcPct val="15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经过某些决策过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800" indent="-282960">
              <a:lnSpc>
                <a:spcPct val="15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针对某品牌集合中的一个或多个特定品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800" indent="-282960">
              <a:lnSpc>
                <a:spcPct val="15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是决策、评价等心理过程的函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0FD77-5133-45F8-B102-528DD51DD2E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8920" y="259920"/>
            <a:ext cx="7821720" cy="137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品牌忠诚形成的心理机制</a:t>
            </a:r>
            <a:br>
              <a:rPr sz="3200"/>
            </a:b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4" name="AutoShape 4"/>
          <p:cNvSpPr/>
          <p:nvPr/>
        </p:nvSpPr>
        <p:spPr>
          <a:xfrm>
            <a:off x="1116000" y="1989000"/>
            <a:ext cx="1657440" cy="719280"/>
          </a:xfrm>
          <a:custGeom>
            <a:avLst/>
            <a:gdLst>
              <a:gd name="textAreaLeft" fmla="*/ 0 w 1657440"/>
              <a:gd name="textAreaRight" fmla="*/ 1657800 w 165744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873" y="0"/>
                </a:lnTo>
                <a:lnTo>
                  <a:pt x="21600" y="10800"/>
                </a:lnTo>
                <a:lnTo>
                  <a:pt x="1387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认知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5"/>
          <p:cNvSpPr/>
          <p:nvPr/>
        </p:nvSpPr>
        <p:spPr>
          <a:xfrm>
            <a:off x="3132000" y="1987560"/>
            <a:ext cx="1656000" cy="720720"/>
          </a:xfrm>
          <a:custGeom>
            <a:avLst/>
            <a:gdLst>
              <a:gd name="textAreaLeft" fmla="*/ 0 w 1656000"/>
              <a:gd name="textAreaRight" fmla="*/ 1656360 w 165600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843" y="0"/>
                </a:lnTo>
                <a:lnTo>
                  <a:pt x="21600" y="10800"/>
                </a:lnTo>
                <a:lnTo>
                  <a:pt x="14843" y="21600"/>
                </a:lnTo>
                <a:lnTo>
                  <a:pt x="0" y="21600"/>
                </a:lnTo>
                <a:lnTo>
                  <a:pt x="6757" y="1080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态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7"/>
          <p:cNvSpPr/>
          <p:nvPr/>
        </p:nvSpPr>
        <p:spPr>
          <a:xfrm>
            <a:off x="5292720" y="2060640"/>
            <a:ext cx="1368360" cy="720720"/>
          </a:xfrm>
          <a:prstGeom prst="flowChartProcess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行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1403280" y="3357720"/>
            <a:ext cx="5400720" cy="18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认知与品牌忠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态度与品牌忠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行为与品牌忠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35F7E-522B-4B67-8750-39914770134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1547640" y="2276640"/>
            <a:ext cx="7221600" cy="361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强化消费者的品牌意识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提升产品与服务品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构建品牌信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善用品牌联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提高品牌转换成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title"/>
          </p:nvPr>
        </p:nvSpPr>
        <p:spPr>
          <a:xfrm>
            <a:off x="-360" y="765000"/>
            <a:ext cx="8001000" cy="1229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三、增强消费者品牌忠诚的措施</a:t>
            </a:r>
            <a:br>
              <a:rPr sz="3200"/>
            </a:b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第一节  品牌的内涵与构成 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403280" y="1719360"/>
            <a:ext cx="728352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一、品牌的定义及内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二、品牌的构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页脚占位符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灯片编号占位符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B8F59-3FAA-40BC-848C-2813395F71C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品牌的定义及内涵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042560" y="1915920"/>
            <a:ext cx="7643880" cy="42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品牌的起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关于品牌定义的研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品牌的内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页脚占位符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灯片编号占位符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A7423-188D-45E4-BF2B-689D88412EC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灯片编号占位符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77803-A934-40A2-83B0-F05C46529B3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-360" y="549000"/>
            <a:ext cx="8472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品牌的定义及内涵</a:t>
            </a:r>
            <a:br>
              <a:rPr sz="3200"/>
            </a:br>
            <a:r>
              <a:rPr b="1" lang="zh-CN" sz="35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412640"/>
            <a:ext cx="8229600" cy="47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品牌的起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关于品牌定义的研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38240" indent="-285840">
              <a:lnSpc>
                <a:spcPct val="12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标识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38240" indent="-285840">
              <a:lnSpc>
                <a:spcPct val="12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资产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38240" indent="-285840">
              <a:lnSpc>
                <a:spcPct val="12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信号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38240" indent="-285840">
              <a:lnSpc>
                <a:spcPct val="12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符号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品牌的内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38240" indent="-285840">
              <a:lnSpc>
                <a:spcPct val="150000"/>
              </a:lnSpc>
              <a:spcBef>
                <a:spcPts val="1199"/>
              </a:spcBef>
              <a:spcAft>
                <a:spcPts val="601"/>
              </a:spcAft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是人类消费发展的产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38240" indent="-285840">
              <a:lnSpc>
                <a:spcPct val="150000"/>
              </a:lnSpc>
              <a:spcBef>
                <a:spcPts val="1199"/>
              </a:spcBef>
              <a:spcAft>
                <a:spcPts val="601"/>
              </a:spcAft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的物质载体是产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38240" indent="-285840">
              <a:lnSpc>
                <a:spcPct val="150000"/>
              </a:lnSpc>
              <a:spcBef>
                <a:spcPts val="1199"/>
              </a:spcBef>
              <a:spcAft>
                <a:spcPts val="601"/>
              </a:spcAft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的特定内容是文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38240" indent="-285840">
              <a:lnSpc>
                <a:spcPct val="150000"/>
              </a:lnSpc>
              <a:spcBef>
                <a:spcPts val="1199"/>
              </a:spcBef>
              <a:spcAft>
                <a:spcPts val="601"/>
              </a:spcAft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的特定对象是消费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-360" y="549000"/>
            <a:ext cx="8472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品牌的定义及内涵</a:t>
            </a:r>
            <a:br>
              <a:rPr sz="3200"/>
            </a:br>
            <a:r>
              <a:rPr b="1" lang="zh-CN" sz="35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灯片编号占位符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EB3F0-349C-4648-A0BD-B88C5CD27FC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品牌的构成</a:t>
            </a:r>
            <a:br>
              <a:rPr sz="3200"/>
            </a:b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68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显性要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1792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显性要素是品牌展现在外的、具体的，消费者可以直接感知的成份，主要指品牌及其所标定产品的名称、标识、包装设计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28584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9a0000"/>
              </a:buClr>
              <a:buSzPct val="75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名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28584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9a0000"/>
              </a:buClr>
              <a:buSzPct val="75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视觉标志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灯片编号占位符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163ED-11AE-4F71-9BEB-EFC2152E4D5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品牌的构成</a:t>
            </a:r>
            <a:br>
              <a:rPr sz="3200"/>
            </a:b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68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隐性要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中不能被直接触摸和感觉到的就被称为品牌的隐性要素，它是 存在于品牌整个形成过程的核心要素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28584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9a0000"/>
              </a:buClr>
              <a:buSzPct val="75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承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28584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9a0000"/>
              </a:buClr>
              <a:buSzPct val="75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个性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28584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9a0000"/>
              </a:buClr>
              <a:buSzPct val="75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体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第二节  品牌心理的形成机制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835280" y="1719360"/>
            <a:ext cx="685152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一、品牌的心理作用基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二、品牌的心理作用机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三、品牌的心理效应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页脚占位符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灯片编号占位符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3063E-AAE1-4C3B-92C5-CDDC8C3FB8E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灯片编号占位符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43368-66B2-48C7-A7CC-87009061633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95000" y="476280"/>
            <a:ext cx="7543800" cy="108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品牌的心理作用基础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                                                                                        </a:t>
            </a:r>
            <a:br>
              <a:rPr sz="3600"/>
            </a:b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763640" y="1700280"/>
            <a:ext cx="67168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品牌的象征意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28584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9a0000"/>
              </a:buClr>
              <a:buSzPct val="75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自我个性的表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28584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9a0000"/>
              </a:buClr>
              <a:buSzPct val="75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自我价值的实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品牌的情感意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内容占位符 2"/>
          <p:cNvSpPr/>
          <p:nvPr/>
        </p:nvSpPr>
        <p:spPr>
          <a:xfrm>
            <a:off x="3924360" y="1197000"/>
            <a:ext cx="8229600" cy="44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30T08:20:57Z</dcterms:created>
  <dc:creator>jianglin</dc:creator>
  <dc:description/>
  <dc:language>en-US</dc:language>
  <cp:lastModifiedBy>Administrator</cp:lastModifiedBy>
  <dcterms:modified xsi:type="dcterms:W3CDTF">2015-09-03T09:22:45Z</dcterms:modified>
  <cp:revision>114</cp:revision>
  <dc:subject/>
  <dc:title>PowerPoint 演示文稿</dc:title>
</cp:coreProperties>
</file>